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315A2-453E-4E01-8708-CDD93CE8A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2B845-75B3-428A-8E68-90C3C4CBC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8BE84-ABA2-478E-AF1F-94D3B10FB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106BD-026F-44BD-B20F-5A0F16153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D0F7-7A1B-4D2C-AB9D-C049D28CF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4040-CF76-41B6-B02D-20E859A09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B928-D725-4475-8A00-07298D06C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51CB0-DFB7-4749-9315-F4B81E727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8ADD8-0520-4F44-A0E0-824B11A1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C2A6-01DE-413B-A41C-C41D8C00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F44D-CE13-490B-8518-0DBF86E3B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CEC0-C91D-4A4A-AF62-16ADD1F0E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C342-0F2C-4364-A847-B152B2870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4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80"/>
                </a:solidFill>
                <a:latin typeface="바탕"/>
              </a:rPr>
              <a:t>ΚΟΙΝΩΝΙΚΑ ΔΙΚΤΥΑ</a:t>
            </a:r>
            <a:br>
              <a:rPr sz="5400"/>
            </a:br>
            <a:r>
              <a:rPr b="1" i="1" lang="en-US" sz="4800" spc="-1" strike="noStrike" u="sng">
                <a:solidFill>
                  <a:srgbClr val="000000"/>
                </a:solidFill>
                <a:uFillTx/>
                <a:latin typeface="바탕"/>
              </a:rPr>
              <a:t>ΑΣΦΑΛΕΙΑ</a:t>
            </a:r>
            <a:br>
              <a:rPr sz="7200"/>
            </a:br>
            <a:br>
              <a:rPr sz="72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240" y="3886200"/>
            <a:ext cx="6513480" cy="1990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6084720" y="5300640"/>
            <a:ext cx="2833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urich Ex BT"/>
              </a:rPr>
              <a:t> </a:t>
            </a:r>
            <a:r>
              <a:rPr b="0" lang="el-GR" sz="1600" spc="-1" strike="noStrike">
                <a:solidFill>
                  <a:srgbClr val="000000"/>
                </a:solidFill>
                <a:latin typeface="Arial"/>
              </a:rPr>
              <a:t>ΚΑΤΙΑ</a:t>
            </a:r>
            <a:r>
              <a:rPr b="0" lang="en-US" sz="1600" spc="-1" strike="noStrike">
                <a:solidFill>
                  <a:srgbClr val="000000"/>
                </a:solidFill>
                <a:latin typeface="Zurich Ex BT"/>
              </a:rPr>
              <a:t> </a:t>
            </a:r>
            <a:r>
              <a:rPr b="0" lang="el-GR" sz="1600" spc="-1" strike="noStrike">
                <a:solidFill>
                  <a:srgbClr val="000000"/>
                </a:solidFill>
                <a:latin typeface="Zurich Ex BT"/>
              </a:rPr>
              <a:t>ΤΙΜΟΦΤΙ</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ΣΟΝΑ ΣΑΡΓΚΣΙΑΝ</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ΦΩΤΗΣ ΠΑΠΑΔΑΚΗΣ</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ΜΑΡΙΑΝΝΑ ΦΕΝΤΟΡΟΒΑ</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ΜΑΡΙΑΝΝΑ ΖΑΡΚΙΑ</a:t>
            </a:r>
            <a:endParaRPr b="0" lang="en-US" sz="1600" spc="-1" strike="noStrike">
              <a:solidFill>
                <a:srgbClr val="000000"/>
              </a:solidFill>
              <a:latin typeface="Arial"/>
            </a:endParaRPr>
          </a:p>
        </p:txBody>
      </p:sp>
      <p:pic>
        <p:nvPicPr>
          <p:cNvPr id="44" name="" descr=""/>
          <p:cNvPicPr/>
          <p:nvPr/>
        </p:nvPicPr>
        <p:blipFill>
          <a:blip r:embed="rId1"/>
          <a:stretch/>
        </p:blipFill>
        <p:spPr>
          <a:xfrm>
            <a:off x="2843280" y="2708280"/>
            <a:ext cx="3529080" cy="257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9999"/>
                </a:solidFill>
                <a:uFillTx/>
                <a:latin typeface="Arial"/>
              </a:rPr>
              <a:t>Η χρήση του Διαδικτύου είναι ασφαλής, αρκεί να θυμάστε τα εξής τρία βασικά πράγματα:</a:t>
            </a:r>
            <a:br>
              <a:rPr sz="4000"/>
            </a:b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οστατέψτε τον υπολογιστή σα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τηρήστε το λειτουργικό σύστημα ενημερωμένο. Χρησιμοποιείτε πρόγραμμα προστασίας από τους ιούς. Χρησιμοποιείτε τείχος προστασίας. Δημιουργείτε αντίγραφα ασφαλείας των σημαντικών αρχείων. Προσέχετε όταν κάνετε λήψη περιεχομένο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9999"/>
                </a:solidFill>
                <a:uFillTx/>
                <a:latin typeface="Arial"/>
              </a:rPr>
              <a:t>Η χρήση του Διαδικτύου είναι ασφαλής, αρκεί να θυμάστε τα εξής τρία βασικά πράγματα:</a:t>
            </a:r>
            <a:br>
              <a:rPr sz="4000"/>
            </a:b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τατέψτε τον εαυτό σας στο Διαδίκτυ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α είστε επιφυλακτικοί όταν δίνετε προσωπικές σας πληροφορίες. Να σκέφτεστε πάντοτε με ποιον μιλάτε. Να θυμάστε ότι δεν είναι όλα αξιόπιστα και δεν είναι όλοι ειλικρινείς στο Διαδίκτυ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κολουθήστε τους κανόνε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έπει να τηρείτε το νόμο, ακόμα και στο Διαδίκτυο. Να θυμάστε να ενδιαφέρεστε και για τους άλλους όπως και για τον εαυτό σας όταν είστε στο Διαδίκτυ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75920"/>
            <a:ext cx="9237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ι νόμοι που ισχύουν  στο Διαδίκτυο.</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Διαδίκτυο είναι δημόσιος χώρος. Όταν είμαστε συνδεδεμένοι θα πρέπει να ακολουθούμε ορισμένους βασικούς κανόνες, όπως πρέπει να ακολουθούμε τον ΚΟΚ όταν οδηγούμ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ν και το μεγαλύτερο μέρος της νομοθεσίας θεσπίστηκε πριν εξαπλωθεί ευρέως το Διαδίκτυο, οι νόμοι ισχύουν και εκεί. Ό,τι είναι παράνομο εκτός Διαδικτύου είναι παράνομο και στο Διαδίκτυο.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Διαδίκτυο παρέχει ευκαιρίες άνευ προηγουμένου για ελεύθερη επικοινωνία, αλλά ενέχει και ευθύνες. Για παράδειγμα, είμαστε συνεχώς υπεύθυνοι για το περιεχόμενο και τη νομιμότητα της δικής μας δικτυακής τοποθεσίας και όσων δημοσιεύονται σε αυτή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3399"/>
                </a:solidFill>
                <a:latin typeface="Arial"/>
              </a:rPr>
              <a:t>Πηγές για την προστασία  στο διαδίκτυο</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a:t>
            </a:r>
            <a:r>
              <a:rPr b="0" lang="el-GR" sz="3200" spc="-1" strike="noStrike" u="sng">
                <a:solidFill>
                  <a:srgbClr val="009999"/>
                </a:solidFill>
                <a:uFillTx/>
                <a:latin typeface="Arial"/>
              </a:rPr>
              <a:t>://</a:t>
            </a:r>
            <a:r>
              <a:rPr b="0" lang="en-US" sz="3200" spc="-1" strike="noStrike" u="sng">
                <a:solidFill>
                  <a:srgbClr val="009999"/>
                </a:solidFill>
                <a:uFillTx/>
                <a:latin typeface="Arial"/>
              </a:rPr>
              <a:t>www</a:t>
            </a:r>
            <a:r>
              <a:rPr b="0" lang="el-GR" sz="3200" spc="-1" strike="noStrike" u="sng">
                <a:solidFill>
                  <a:srgbClr val="009999"/>
                </a:solidFill>
                <a:uFillTx/>
                <a:latin typeface="Arial"/>
              </a:rPr>
              <a:t>. </a:t>
            </a:r>
            <a:r>
              <a:rPr b="0" lang="en-US" sz="3200" spc="-1" strike="noStrike" u="sng">
                <a:solidFill>
                  <a:srgbClr val="009999"/>
                </a:solidFill>
                <a:uFillTx/>
                <a:latin typeface="Arial"/>
              </a:rPr>
              <a:t>policent</a:t>
            </a:r>
            <a:r>
              <a:rPr b="0" lang="el-GR" sz="3200" spc="-1" strike="noStrike" u="sng">
                <a:solidFill>
                  <a:srgbClr val="009999"/>
                </a:solidFill>
                <a:uFillTx/>
                <a:latin typeface="Arial"/>
              </a:rPr>
              <a:t>.</a:t>
            </a:r>
            <a:r>
              <a:rPr b="0" lang="en-US" sz="3200" spc="-1" strike="noStrike" u="sng">
                <a:solidFill>
                  <a:srgbClr val="009999"/>
                </a:solidFill>
                <a:uFillTx/>
                <a:latin typeface="Arial"/>
              </a:rPr>
              <a:t>gr</a:t>
            </a:r>
            <a:r>
              <a:rPr b="0" lang="el-GR" sz="3200" spc="-1" strike="noStrike" u="sng">
                <a:solidFill>
                  <a:srgbClr val="009999"/>
                </a:solidFill>
                <a:uFillTx/>
                <a:latin typeface="Arial"/>
              </a:rPr>
              <a:t>/</a:t>
            </a:r>
            <a:r>
              <a:rPr b="0" lang="en-US" sz="3200" spc="-1" strike="noStrike" u="sng">
                <a:solidFill>
                  <a:srgbClr val="009999"/>
                </a:solidFill>
                <a:uFillTx/>
                <a:latin typeface="Arial"/>
              </a:rPr>
              <a:t>portal</a:t>
            </a:r>
            <a:r>
              <a:rPr b="0" lang="el-GR" sz="3200" spc="-1" strike="noStrike" u="sng">
                <a:solidFill>
                  <a:srgbClr val="009999"/>
                </a:solidFill>
                <a:uFillTx/>
                <a:latin typeface="Arial"/>
              </a:rPr>
              <a:t>/</a:t>
            </a:r>
            <a:r>
              <a:rPr b="0" lang="en-US" sz="3200" spc="-1" strike="noStrike" u="sng">
                <a:solidFill>
                  <a:srgbClr val="009999"/>
                </a:solidFill>
                <a:uFillTx/>
                <a:latin typeface="Arial"/>
              </a:rPr>
              <a:t>ext</a:t>
            </a:r>
            <a:r>
              <a:rPr b="0" lang="el-GR" sz="3200" spc="-1" strike="noStrike" u="sng">
                <a:solidFill>
                  <a:srgbClr val="009999"/>
                </a:solidFill>
                <a:uFillTx/>
                <a:latin typeface="Arial"/>
              </a:rPr>
              <a:t>/ </a:t>
            </a:r>
            <a:r>
              <a:rPr b="0" lang="en-US" sz="3200" spc="-1" strike="noStrike" u="sng">
                <a:solidFill>
                  <a:srgbClr val="009999"/>
                </a:solidFill>
                <a:uFillTx/>
                <a:latin typeface="Arial"/>
              </a:rPr>
              <a:t>prostasia</a:t>
            </a:r>
            <a:r>
              <a:rPr b="0" lang="el-GR" sz="3200" spc="-1" strike="noStrike" u="sng">
                <a:solidFill>
                  <a:srgbClr val="009999"/>
                </a:solidFill>
                <a:uFillTx/>
                <a:latin typeface="Arial"/>
              </a:rPr>
              <a:t>-</a:t>
            </a:r>
            <a:r>
              <a:rPr b="0" lang="en-US" sz="3200" spc="-1" strike="noStrike" u="sng">
                <a:solidFill>
                  <a:srgbClr val="009999"/>
                </a:solidFill>
                <a:uFillTx/>
                <a:latin typeface="Arial"/>
              </a:rPr>
              <a:t>paidion</a:t>
            </a:r>
            <a:r>
              <a:rPr b="0" lang="el-GR" sz="3200" spc="-1" strike="noStrike" u="sng">
                <a:solidFill>
                  <a:srgbClr val="009999"/>
                </a:solidFill>
                <a:uFillTx/>
                <a:latin typeface="Arial"/>
              </a:rPr>
              <a:t>.</a:t>
            </a:r>
            <a:r>
              <a:rPr b="0" lang="en-US" sz="3200" spc="-1" strike="noStrike" u="sng">
                <a:solidFill>
                  <a:srgbClr val="009999"/>
                </a:solidFill>
                <a:uFillTx/>
                <a:latin typeface="Arial"/>
              </a:rPr>
              <a:t>html</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ttp</a:t>
            </a:r>
            <a:r>
              <a:rPr b="0" lang="el-GR" sz="3200" spc="-1" strike="noStrike">
                <a:solidFill>
                  <a:srgbClr val="333399"/>
                </a:solidFill>
                <a:latin typeface="Arial"/>
              </a:rPr>
              <a:t>://</a:t>
            </a:r>
            <a:r>
              <a:rPr b="0" lang="en-US" sz="3200" spc="-1" strike="noStrike">
                <a:solidFill>
                  <a:srgbClr val="333399"/>
                </a:solidFill>
                <a:latin typeface="Arial"/>
              </a:rPr>
              <a:t>www</a:t>
            </a:r>
            <a:r>
              <a:rPr b="0" lang="el-GR" sz="3200" spc="-1" strike="noStrike">
                <a:solidFill>
                  <a:srgbClr val="333399"/>
                </a:solidFill>
                <a:latin typeface="Arial"/>
              </a:rPr>
              <a:t>.</a:t>
            </a:r>
            <a:r>
              <a:rPr b="0" lang="en-US" sz="3200" spc="-1" strike="noStrike">
                <a:solidFill>
                  <a:srgbClr val="333399"/>
                </a:solidFill>
                <a:latin typeface="Arial"/>
              </a:rPr>
              <a:t>forthnet</a:t>
            </a:r>
            <a:r>
              <a:rPr b="0" lang="el-GR" sz="3200" spc="-1" strike="noStrike">
                <a:solidFill>
                  <a:srgbClr val="333399"/>
                </a:solidFill>
                <a:latin typeface="Arial"/>
              </a:rPr>
              <a:t>.</a:t>
            </a:r>
            <a:r>
              <a:rPr b="0" lang="en-US" sz="3200" spc="-1" strike="noStrike">
                <a:solidFill>
                  <a:srgbClr val="333399"/>
                </a:solidFill>
                <a:latin typeface="Arial"/>
              </a:rPr>
              <a:t>gr</a:t>
            </a:r>
            <a:r>
              <a:rPr b="0" lang="el-GR" sz="3200" spc="-1" strike="noStrike">
                <a:solidFill>
                  <a:srgbClr val="333399"/>
                </a:solidFill>
                <a:latin typeface="Arial"/>
              </a:rPr>
              <a:t>/</a:t>
            </a:r>
            <a:r>
              <a:rPr b="0" lang="en-US" sz="3200" spc="-1" strike="noStrike">
                <a:solidFill>
                  <a:srgbClr val="333399"/>
                </a:solidFill>
                <a:latin typeface="Arial"/>
              </a:rPr>
              <a:t>templates</a:t>
            </a:r>
            <a:r>
              <a:rPr b="0" lang="el-GR" sz="3200" spc="-1" strike="noStrike">
                <a:solidFill>
                  <a:srgbClr val="333399"/>
                </a:solidFill>
                <a:latin typeface="Arial"/>
              </a:rPr>
              <a:t>/</a:t>
            </a:r>
            <a:r>
              <a:rPr b="0" lang="en-US" sz="3200" spc="-1" strike="noStrike">
                <a:solidFill>
                  <a:srgbClr val="333399"/>
                </a:solidFill>
                <a:latin typeface="Arial"/>
              </a:rPr>
              <a:t>viewcontentTmart</a:t>
            </a:r>
            <a:r>
              <a:rPr b="0" lang="el-GR" sz="3200" spc="-1" strike="noStrike">
                <a:solidFill>
                  <a:srgbClr val="333399"/>
                </a:solidFill>
                <a:latin typeface="Arial"/>
              </a:rPr>
              <a:t>.</a:t>
            </a:r>
            <a:r>
              <a:rPr b="0" lang="en-US" sz="3200" spc="-1" strike="noStrike">
                <a:solidFill>
                  <a:srgbClr val="333399"/>
                </a:solidFill>
                <a:latin typeface="Arial"/>
              </a:rPr>
              <a:t>aspx</a:t>
            </a:r>
            <a:r>
              <a:rPr b="0" lang="el-GR" sz="3200" spc="-1" strike="noStrike">
                <a:solidFill>
                  <a:srgbClr val="333399"/>
                </a:solidFill>
                <a:latin typeface="Arial"/>
              </a:rPr>
              <a:t>?</a:t>
            </a:r>
            <a:r>
              <a:rPr b="0" lang="en-US" sz="3200" spc="-1" strike="noStrike">
                <a:solidFill>
                  <a:srgbClr val="333399"/>
                </a:solidFill>
                <a:latin typeface="Arial"/>
              </a:rPr>
              <a:t>p</a:t>
            </a:r>
            <a:r>
              <a:rPr b="0" lang="el-GR" sz="3200" spc="-1" strike="noStrike">
                <a:solidFill>
                  <a:srgbClr val="333399"/>
                </a:solidFill>
                <a:latin typeface="Arial"/>
              </a:rPr>
              <a:t>=10960</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ttp</a:t>
            </a:r>
            <a:r>
              <a:rPr b="0" lang="el-GR" sz="3200" spc="-1" strike="noStrike">
                <a:solidFill>
                  <a:srgbClr val="333399"/>
                </a:solidFill>
                <a:latin typeface="Arial"/>
              </a:rPr>
              <a:t>://</a:t>
            </a:r>
            <a:r>
              <a:rPr b="0" lang="en-US" sz="3200" spc="-1" strike="noStrike">
                <a:solidFill>
                  <a:srgbClr val="333399"/>
                </a:solidFill>
                <a:latin typeface="Arial"/>
              </a:rPr>
              <a:t>www</a:t>
            </a:r>
            <a:r>
              <a:rPr b="0" lang="el-GR" sz="3200" spc="-1" strike="noStrike">
                <a:solidFill>
                  <a:srgbClr val="333399"/>
                </a:solidFill>
                <a:latin typeface="Arial"/>
              </a:rPr>
              <a:t>.</a:t>
            </a:r>
            <a:r>
              <a:rPr b="0" lang="en-US" sz="3200" spc="-1" strike="noStrike">
                <a:solidFill>
                  <a:srgbClr val="333399"/>
                </a:solidFill>
                <a:latin typeface="Arial"/>
              </a:rPr>
              <a:t>microsoft</a:t>
            </a:r>
            <a:r>
              <a:rPr b="0" lang="el-GR" sz="3200" spc="-1" strike="noStrike">
                <a:solidFill>
                  <a:srgbClr val="333399"/>
                </a:solidFill>
                <a:latin typeface="Arial"/>
              </a:rPr>
              <a:t>.</a:t>
            </a:r>
            <a:r>
              <a:rPr b="0" lang="en-US" sz="3200" spc="-1" strike="noStrike">
                <a:solidFill>
                  <a:srgbClr val="333399"/>
                </a:solidFill>
                <a:latin typeface="Arial"/>
              </a:rPr>
              <a:t>com</a:t>
            </a:r>
            <a:r>
              <a:rPr b="0" lang="el-GR" sz="3200" spc="-1" strike="noStrike">
                <a:solidFill>
                  <a:srgbClr val="333399"/>
                </a:solidFill>
                <a:latin typeface="Arial"/>
              </a:rPr>
              <a:t>.</a:t>
            </a:r>
            <a:r>
              <a:rPr b="0" lang="en-US" sz="3200" spc="-1" strike="noStrike">
                <a:solidFill>
                  <a:srgbClr val="333399"/>
                </a:solidFill>
                <a:latin typeface="Arial"/>
              </a:rPr>
              <a:t>hellas</a:t>
            </a:r>
            <a:r>
              <a:rPr b="0" lang="el-GR" sz="3200" spc="-1" strike="noStrike">
                <a:solidFill>
                  <a:srgbClr val="333399"/>
                </a:solidFill>
                <a:latin typeface="Arial"/>
              </a:rPr>
              <a:t>/</a:t>
            </a:r>
            <a:r>
              <a:rPr b="0" lang="en-US" sz="3200" spc="-1" strike="noStrike">
                <a:solidFill>
                  <a:srgbClr val="333399"/>
                </a:solidFill>
                <a:latin typeface="Arial"/>
              </a:rPr>
              <a:t>protect</a:t>
            </a:r>
            <a:r>
              <a:rPr b="0" lang="el-GR" sz="3200" spc="-1" strike="noStrike">
                <a:solidFill>
                  <a:srgbClr val="333399"/>
                </a:solidFill>
                <a:latin typeface="Arial"/>
              </a:rPr>
              <a:t>/</a:t>
            </a:r>
            <a:r>
              <a:rPr b="0" lang="en-US" sz="3200" spc="-1" strike="noStrike">
                <a:solidFill>
                  <a:srgbClr val="333399"/>
                </a:solidFill>
                <a:latin typeface="Arial"/>
              </a:rPr>
              <a:t>family</a:t>
            </a:r>
            <a:r>
              <a:rPr b="0" lang="el-GR" sz="3200" spc="-1" strike="noStrike">
                <a:solidFill>
                  <a:srgbClr val="333399"/>
                </a:solidFill>
                <a:latin typeface="Arial"/>
              </a:rPr>
              <a:t>/</a:t>
            </a:r>
            <a:r>
              <a:rPr b="0" lang="en-US" sz="3200" spc="-1" strike="noStrike">
                <a:solidFill>
                  <a:srgbClr val="333399"/>
                </a:solidFill>
                <a:latin typeface="Arial"/>
              </a:rPr>
              <a:t>guidelines</a:t>
            </a:r>
            <a:r>
              <a:rPr b="0" lang="el-GR" sz="3200" spc="-1" strike="noStrike">
                <a:solidFill>
                  <a:srgbClr val="333399"/>
                </a:solidFill>
                <a:latin typeface="Arial"/>
              </a:rPr>
              <a:t>/</a:t>
            </a:r>
            <a:r>
              <a:rPr b="0" lang="en-US" sz="3200" spc="-1" strike="noStrike">
                <a:solidFill>
                  <a:srgbClr val="333399"/>
                </a:solidFill>
                <a:latin typeface="Arial"/>
              </a:rPr>
              <a:t>contact</a:t>
            </a:r>
            <a:r>
              <a:rPr b="0" lang="el-GR" sz="3200" spc="-1" strike="noStrike">
                <a:solidFill>
                  <a:srgbClr val="333399"/>
                </a:solidFill>
                <a:latin typeface="Arial"/>
              </a:rPr>
              <a:t>.</a:t>
            </a:r>
            <a:r>
              <a:rPr b="0" lang="en-US" sz="3200" spc="-1" strike="noStrike">
                <a:solidFill>
                  <a:srgbClr val="333399"/>
                </a:solidFill>
                <a:latin typeface="Arial"/>
              </a:rPr>
              <a:t>ms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l-GR" sz="4000" spc="-1" strike="noStrike" u="sng">
                <a:solidFill>
                  <a:srgbClr val="009999"/>
                </a:solidFill>
                <a:uFillTx/>
                <a:latin typeface="Arial"/>
              </a:rPr>
              <a:t>Ασφάλεια</a:t>
            </a:r>
            <a:r>
              <a:rPr b="1" lang="en-US" sz="4000" spc="-1" strike="noStrike" u="sng">
                <a:solidFill>
                  <a:srgbClr val="009999"/>
                </a:solidFill>
                <a:uFillTx/>
                <a:latin typeface="Arial"/>
              </a:rPr>
              <a:t> </a:t>
            </a:r>
            <a:r>
              <a:rPr b="1" lang="el-GR" sz="4000" spc="-1" strike="noStrike" u="sng">
                <a:solidFill>
                  <a:srgbClr val="009999"/>
                </a:solidFill>
                <a:uFillTx/>
                <a:latin typeface="Arial"/>
              </a:rPr>
              <a:t>και Κοινωνικά δίκτυ</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Ποιοι είναι οι κίνδυνο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ηλεκτρονική παρενόχληση είναι οποιοδήποτε είδος επανειλημμένης επιθετικής συμπεριφοράς λεκτικής, ψυχολογικής ή σωματικής - που πραγματοποιείται από ένα άτομο ή μια ομάδα ατόμων κατά τρίτων. Η ηλεκτρονική παρενόχληση είναι εσφαλμένη και απαράδεκτη συμπεριφορά. Δεν πρέπει σε καμία περίπτωση να παραβλέπεται ή να αγνοείται.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Privacy</a:t>
            </a:r>
            <a:r>
              <a:rPr b="0" lang="el-GR" sz="2400" spc="-1" strike="noStrike">
                <a:solidFill>
                  <a:srgbClr val="000000"/>
                </a:solidFill>
                <a:latin typeface="Arial"/>
              </a:rPr>
              <a:t>: τα παιδιά μπορεί να εμπιστεύονται το Internet και να παρέχουν προσωπικές πληροφορίες χωρίς ενδοιασμού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l-GR" sz="4400" spc="-1" strike="noStrike" u="sng">
                <a:solidFill>
                  <a:srgbClr val="009999"/>
                </a:solidFill>
                <a:uFillTx/>
                <a:latin typeface="Arial"/>
              </a:rPr>
              <a:t>Ασφάλεια</a:t>
            </a:r>
            <a:r>
              <a:rPr b="1" lang="en-US" sz="4400" spc="-1" strike="noStrike" u="sng">
                <a:solidFill>
                  <a:srgbClr val="009999"/>
                </a:solidFill>
                <a:uFillTx/>
                <a:latin typeface="Arial"/>
              </a:rPr>
              <a:t> </a:t>
            </a:r>
            <a:r>
              <a:rPr b="1" lang="el-GR" sz="4400" spc="-1" strike="noStrike" u="sng">
                <a:solidFill>
                  <a:srgbClr val="009999"/>
                </a:solidFill>
                <a:uFillTx/>
                <a:latin typeface="Arial"/>
              </a:rPr>
              <a:t>και Κοινωνικά δίκτυα</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σφάλεια: όταν είναι online, τα παιδιά μπορεί να εκτίθενται σε ιούς (hac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Ανάρμοστο περιεχόμενο: τα παιδιά μπορεί να εκτεθούν σε υλικό που είναι ανάρμοστο και μπορεί να περιλαμβάνει πορνογραφία, διαφημιστικό υλικό, βία, εχθρότητα και εξτρεμιστικές ομάδε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Online απάτες: απάτες που πραγματοποιούνται online όπως γίνονται και στον πραγματικό κόσμο, μόνο που οι απατεώνες συνήθως δεν ενδιαφέρονται για την ηλικία του ατόμου που εξαπατούν – ενδιαφέρονται μόνο για αυτά που θα αποκομίσου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l-GR" sz="4400" spc="-1" strike="noStrike" u="sng">
                <a:solidFill>
                  <a:srgbClr val="009999"/>
                </a:solidFill>
                <a:uFillTx/>
                <a:latin typeface="Arial"/>
              </a:rPr>
              <a:t>Ασφάλεια</a:t>
            </a:r>
            <a:r>
              <a:rPr b="1" lang="en-US" sz="4400" spc="-1" strike="noStrike" u="sng">
                <a:solidFill>
                  <a:srgbClr val="009999"/>
                </a:solidFill>
                <a:uFillTx/>
                <a:latin typeface="Arial"/>
              </a:rPr>
              <a:t> </a:t>
            </a:r>
            <a:r>
              <a:rPr b="1" lang="el-GR" sz="4400" spc="-1" strike="noStrike" u="sng">
                <a:solidFill>
                  <a:srgbClr val="009999"/>
                </a:solidFill>
                <a:uFillTx/>
                <a:latin typeface="Arial"/>
              </a:rPr>
              <a:t>και Κοινωνικά δίκτυ</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Ψυχολογικά προβλήματα: τα παιδιά μπορούν να εθιστούν στο Internet και να αποκτήσουν προβλήματα όσο αφορά την κοινωνικότητά τους με άλλους ανθρώπους είτε στο σχολείο είτε στο σπίτ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Ηλεκτρονικό έγκλημα τα παιδιά μπορεί να εμπλακούν σε παράνομες online ενέργειες. Συνήθως δεν γνωρίζουν τα νομικά, ηθικά και δεοντολογικά θέματ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Identity theft: κάποιο άλλο άτομο μπορεί να κλέψει την ταυτότητα ενός παιδιού και να εκτελέσει παράνομες online δραστηριότητε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Ποια τα σημάδια κινδύνου για τα παιδιά</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H συμπεριφορά των παιδιών στον έξω κόσμο μπορεί να αλλάξει αν κινδυνεύουν online. Τα παιδιά συνήθως παρουσιάζουν επικίνδυνα σημάδια και αν οι γονείς τα λάβουν υπ’ όψιν τους, μπορεί να αποφευχθούν σοβαρά προβλήματα.</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Υπερβολική χρήση άλλης τεχνολογίας: το παιδί μπορεί ξαφνικά να αρχίσει να σκανάρει φωτογραφίες, να αντιγράφει δισκέτα.</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Ποια τα σημάδια κινδύνου για τα παιδιά</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Παραβίαση 600.000 λογαριασμών Facebook σε καθημερινή βάση (09/11/2011)</a:t>
            </a:r>
            <a:br>
              <a:rPr sz="1400"/>
            </a:br>
            <a:r>
              <a:rPr b="0" lang="en-US" sz="1400" spc="-1" strike="noStrike">
                <a:solidFill>
                  <a:srgbClr val="000000"/>
                </a:solidFill>
                <a:latin typeface="Verdana"/>
              </a:rPr>
              <a:t>600.000 λογαριασμοί μελών του Facebook παραβιάζονται σε καθημερινή βάση, σύμφωνα με την εταιρία ασφάλειας Sophos. Οι λογαριασμοί παραβιάζονται από χάκερ που θέλουν είτε να υποκλέψουν τα προσωπικά δεδομένα των χρηστών είτε να στείλουν αμέτρητα διαφημιστικά μηνύματα. Το γεγονός αυτό, το οποίο το επιβεβαίωσε και το ίδιο το Facebook με ανάρτηση σε επίσημο blog, ανάγκασε τους υπεύθυνους του δημοφιλούς ιστοχώρου κοινωνικής δικτύωσης να δημιουργήσουν δύο νέες υπηρεσίες προστασίας, τα Trusted Friends και το App Passwords. Έτσι, με το Trusted Friends, κάθε χρήστης μπορεί να ορίσει 3-5 έμπιστους «φίλους» του, στους οποίους θα σταλεί ένας κωδικός που θα ξεμπλοκάρει τον λογαριασμό του στην περίπτωση που έχει ξεχάσει τον κωδικό του. Επίσης, με το App Passwords, μπορεί να καθορίσει ξεχωριστούς κωδικούς για να μπαίνει σε εφαρμογές τρίτων εταιριών προγραμματιστώ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Οκτώ βήματα για την ασφάλεια του υπολογιστή σας.</a:t>
            </a:r>
            <a:br>
              <a:rPr sz="2000"/>
            </a:br>
            <a:endParaRPr b="0" lang="en-US" sz="20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γκαταστήστε και χρησιμοποιείστε κάποιο πρόγραμμα προστασίας από ιούς. Να το ενημερώνετε συχνά (ακόμα και μια φορά τη μέρα), με όλες τις νέες εκδόσεις ιών που κυκλοφορούν.</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 κρατάτε Backup των αρχείων του υπολογιστή σας, ώστε ακόμη και αν συμβεί κάτι στον υπολογιστή σας, να μπορείτε να ανακτήσετε ξανά τα δεδομένα σ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 προστατεύεται τους κωδικούς ασφαλείας σας. Μην τους μοιράζεστε με κανέναν, ακόμη και με το φίλο σας ή το διαχειριστή του μηχανήματος σ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 είστε πολύ προσεκτικοί με μηνύματα ηλεκτρονικού ταχυδρομείου (e-mail) ή ιστοσελίδες, που σας ζητούν να τους παραχωρήσετε προσωπικές πληροφορίες ή σας προτρέπουν να κατεβάσετε κάποιο αρχείο.</a:t>
            </a:r>
            <a:endParaRPr b="0" lang="en-US" sz="1600" spc="-1" strike="noStrike">
              <a:solidFill>
                <a:srgbClr val="000000"/>
              </a:solidFill>
              <a:latin typeface="Arial"/>
            </a:endParaRPr>
          </a:p>
        </p:txBody>
      </p:sp>
      <p:pic>
        <p:nvPicPr>
          <p:cNvPr id="5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Οκτώ βήματα για την ασφάλεια του υπολογιστή σας.</a:t>
            </a:r>
            <a:br>
              <a:rPr sz="2000"/>
            </a:b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Να κρατάτε το λειτουργικό σας σύστημα πάντοτε ενημερωμένο (upda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γκαταστήστε και χρησιμοποιείστε κάποιο τείχος προστασίας (firewall) στον υπολογιστή του σπιτιού σ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Χρησιμοποιείστε φίλτρα διαχωρισμού, για τα διαφημιστικά μηνύματα ηλεκτρονικού ταχυδρομείου (spa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είστε τεχνολογίες κρυπτογράφησης (SSL) ή ψηφιακής υπογραφής σε υπηρεσίες όπως είναι το ηλεκτρονικό ταχυδρομεί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λέγξτε για τα ακόλουθα αν θεωρείτε ότι το παιδί σας κινδυνεύει online:</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a:rPr>
              <a:t>    </a:t>
            </a:r>
            <a:endParaRPr b="0" lang="en-US" sz="900" spc="-1" strike="noStrike">
              <a:solidFill>
                <a:srgbClr val="000000"/>
              </a:solidFill>
              <a:latin typeface="Arial"/>
            </a:endParaRPr>
          </a:p>
        </p:txBody>
      </p:sp>
      <p:pic>
        <p:nvPicPr>
          <p:cNvPr id="6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Οκτώ βήματα για την ασφάλεια του υπολογιστή σας.</a:t>
            </a:r>
            <a:br>
              <a:rPr sz="2000"/>
            </a:br>
            <a:endParaRPr b="0" lang="en-US" sz="2000" spc="-1" strike="noStrike">
              <a:solidFill>
                <a:srgbClr val="000000"/>
              </a:solidFill>
              <a:latin typeface="Arial"/>
            </a:endParaRPr>
          </a:p>
        </p:txBody>
      </p:sp>
      <p:sp>
        <p:nvSpPr>
          <p:cNvPr id="62" name="PlaceHolder 2"/>
          <p:cNvSpPr>
            <a:spLocks noGrp="1"/>
          </p:cNvSpPr>
          <p:nvPr>
            <p:ph/>
          </p:nvPr>
        </p:nvSpPr>
        <p:spPr>
          <a:xfrm>
            <a:off x="468360" y="155736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ερνάει μεγάλο διάστημα μπροστά στον υπολογιστή: μία ένδειξη ότι το παιδί έχει ανακαλύψει ένα χώρο στο Internet που παρέχει ενθουσιασμό ή κίνδυν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λαχιστοποιεί το παράθυρο στην οθόνη κάθε φορά που πλησιάζετε: αυτό το είδος συμπεριφοράς μπορεί να υποδείξει ότι έχει εμπλακεί με ανάρμοστο περιεχόμενο όπως πορνογραφία ή βίαιο υλικ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Περνά αρκετό χρόνο μόνο του online: το παιδί μπορεί να δημιουργήσει online σχέσ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Υπερβολική χρήση των chat rooms και του instant messaging: η χρήση του υπολογιστή για επικοινωνία είναι παρόμοια με αυτή του τηλεφώνου. Έχετε υπ’ όψιν σας ότι το παιδί σας μπορεί να συνομιλεί με</a:t>
            </a:r>
            <a:r>
              <a:rPr b="0" lang="el-GR" sz="900" spc="-1" strike="noStrike">
                <a:solidFill>
                  <a:srgbClr val="000000"/>
                </a:solidFill>
                <a:latin typeface="Arial"/>
              </a:rPr>
              <a:t> </a:t>
            </a:r>
            <a:r>
              <a:rPr b="0" lang="el-GR" sz="1600" spc="-1" strike="noStrike">
                <a:solidFill>
                  <a:srgbClr val="000000"/>
                </a:solidFill>
                <a:latin typeface="Arial"/>
              </a:rPr>
              <a:t>ξένους που μπορεί να είναι ενήλικες με καχύποπτα κίνητρα.</a:t>
            </a:r>
            <a:endParaRPr b="0" lang="en-US" sz="1600" spc="-1" strike="noStrike">
              <a:solidFill>
                <a:srgbClr val="000000"/>
              </a:solidFill>
              <a:latin typeface="Arial"/>
            </a:endParaRPr>
          </a:p>
        </p:txBody>
      </p:sp>
      <p:pic>
        <p:nvPicPr>
          <p:cNvPr id="6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8:29:37Z</dcterms:created>
  <dc:creator>Computer Technology Institute</dc:creator>
  <dc:description/>
  <dc:language>en-US</dc:language>
  <cp:lastModifiedBy>Computer Technology Institute</cp:lastModifiedBy>
  <dcterms:modified xsi:type="dcterms:W3CDTF">2012-01-24T09:15:59Z</dcterms:modified>
  <cp:revision>16</cp:revision>
  <dc:subject/>
  <dc:title>Ασφάλεια και Κοινωνικά δίκτυα </dc:title>
</cp:coreProperties>
</file>